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FD0-519A-499F-B09F-1C5D12A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47A-9CB1-46DB-BDF5-C368F09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2E1-0949-41A6-8818-D160F5B1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8CE-D765-491E-8608-A25302DF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5EA-6230-4D2E-BCB2-935DC0FB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73C-8A74-4B26-8A5B-0F351953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D86-1815-47A3-8B66-E32468A6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7ED-902A-48B4-A082-53AF18B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8AB-F147-43B7-9F61-9562FD7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5ED-DD5E-4A5D-AF61-583F885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814-4139-4328-B6A8-A7D4D6A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2D3-0B6C-40B5-A571-9AB5D06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E297-7C06-4662-9E76-294DD0EC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ation – how Grace reveals her characters i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tructu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Letters/narrative/parallel structure/diary/climax show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Physical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alogue – dire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nflict (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onflict (ex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ntrast – between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nteraction – wit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Style – languag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Structur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Letters/narrative/parallel structure/diary/climax shows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Physical descri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alogue – 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lict (inter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Conflict (exter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ntrast – between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teraction – with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Style – language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3:14:06Z</dcterms:created>
  <dc:creator>tomhaig</dc:creator>
  <dc:description/>
  <dc:language>en-US</dc:language>
  <cp:lastModifiedBy>tomhaig</cp:lastModifiedBy>
  <dcterms:modified xsi:type="dcterms:W3CDTF">2007-10-15T23:20:10Z</dcterms:modified>
  <cp:revision>2</cp:revision>
  <dc:subject/>
  <dc:title>Characterisation – how Grace reveals her characters in Tu.</dc:title>
</cp:coreProperties>
</file>